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D69B-C9BF-4FC7-BD41-1E0C6AB2088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e made this tui logo. Blatantly. copy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3E59-4F92-4D40-AC94-A9133FC34B4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ttp://images.google.co.nz/imgres?imgurl=http://i.treehugger.com/images/2007/10/24/smoke%2520stack-jj-001.jpg&amp;imgrefurl=http://www.treehugger.com/2007/06/24-week/&amp;usg=__zIXSoR4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612D-2CBF-4D20-A43B-8699416C3CC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157A-BA58-4E6C-9DD8-2053D07BA4A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1BC-4AF7-4FAF-9486-3225F012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4B9-4305-4059-A760-072D9254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BB3-B1D9-48C3-A0CE-3C4F5B92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594-96CD-4E12-9714-DFB51023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D7D3-8273-428E-9A40-45C2D523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0522-D992-4756-B785-ECD94544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822F-86F1-4D21-8F8B-1F219AAA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9089-271B-47B1-AAEF-4F7E5EA3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99C7-F702-4221-B316-DB790BD1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E415-A910-4C2C-BCA0-C1645EA2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DEA9-F897-4AA2-8C51-8EBBB583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2AE-B136-4977-8C2E-0BE7A574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6F9F-C365-46D3-BBE4-7AFEEBE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97EF-669B-429D-BC1D-A707494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1AB1-9485-44DF-8A56-92D4758C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E677-48B9-4B38-A56C-041AC4BA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A880-F629-4DEE-B41E-97D4EDC0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8C0B4-FB46-499C-9BDD-7E2B7CC6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3FC4-966A-47E0-90F4-9F5BDF07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A752-AFF8-4659-A2C5-B0349655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4885-BF90-4B5C-8C88-052D4F1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82DF-E526-4262-A572-F2DC485A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409-8637-4AE9-8763-179527CA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65FF-C68D-4E64-BAA4-5E32B445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C9BE-7C07-4D54-ADB4-B5DBC2E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39AF-C23C-4DF9-8A2E-94CA3A83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CB75-1A7C-4181-892F-2C83B4EB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46D8-F8D0-4EA5-B69A-9733A014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64F65-36A6-4675-B166-D7845864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8B8B-7C2C-4337-8E2B-D3ADE12A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04B0-5D7E-47FB-84A2-5BCBC11E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3FCE9-DD58-4F2D-AF4F-15C0A6B8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D99D0-5D09-4C8A-822A-BB1FD3EC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575-0238-482D-B7C3-C1BBFE72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49D9-8F15-42E2-BBEC-DC09B3B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74FC-55F8-4611-9644-3A4123CA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0A859-4D64-423C-8FC0-5ABCE1EC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0807-2A91-40FB-ABB8-D83D523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59310-C7DB-4C39-B41E-8ED5DEE9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4C32-488B-4D83-8A4B-D7E4DEDF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EEA7-82AA-4819-9B9A-B3561A42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B7CC-C894-409B-8683-A9168D1A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014A5-ABEE-4659-A533-068044F3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BA745-8E97-4893-9BC7-8DCBA068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892-F02D-48B2-957E-F916D47E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F5CE-D0CE-492E-8709-FC6A02CF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66066-2399-464A-8B9E-669E3078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6A934-5434-4F23-90DB-AEB572E2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48B3D-21BE-4962-9305-607B9608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E2F10-484B-4EE2-9550-C6700D40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F03C4-B732-4B9E-95D7-A168E50A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6D889-F8A8-4E63-B580-C2902981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495F0-E67D-4A9B-90AA-0E4947AC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312BF-E115-45B1-AE7C-37FDD564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BDB6-EF1D-455A-80B4-AB479359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7A4-D19E-43FF-8CE1-17A2482C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D9637-3F3C-4F0C-AE65-09CA2F73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BDAAD-22A9-4AAE-AB62-E901A46E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2910B-673D-4F48-B66D-B6E78CEF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4B34B-883B-493D-8223-F4B64BD2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D97D1-AC50-43EA-9EE7-4A4E72BD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6265-AF73-42B0-B51F-ECE1CCBE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359C1-C616-48D8-9FFD-940A5F6B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FA8DC-C331-4F55-8DBC-A2105793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CA709-A6CA-4D68-A581-030E2AF9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B23D9-053E-41E0-B8C6-AED4CA5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360-AE78-478D-87BF-EA73D4EA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C7BD3-78A2-4F3E-AE39-50838868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62722-88AB-4009-924F-ADC9CB55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6779-D727-41F8-B09A-3B55AA79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401EC-01E5-450F-9A22-E36E9608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C54C-3757-477B-9C1F-F6FEFD3C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0185E-525C-4DA5-955E-BE2FC665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583A5-FD63-44B0-9CC2-C8D6674F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614E3-5F02-49BA-8D76-C478F352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1E183-71A0-42B4-955F-A46304E1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25351-F56E-4EFF-8392-F4D90388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6C4-BB6F-4FB6-8C3F-7B91159F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3E5C0-EAAA-4798-96F4-0279A6D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44A34-082E-4E3D-8716-5C9E1C62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AD7BA-A012-4142-A83B-E1A2AA82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B26D9-34C9-40D8-AE2E-875AA1B5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B195D-A9A4-4C6A-843B-40AF6E0F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06F-3418-4435-82E0-400C2603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F3DC-CE40-4112-B0F0-1D5EB785B586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A98A-6D26-4594-891F-68058055ABBE}" type="slidenum">
              <a:rPr b="0" lang="en-N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3A59-851B-49A7-A9B5-1D24819F6FCD}" type="slidenum">
              <a:rPr b="0" lang="en-N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CB00-77FA-4A65-9469-E572BDA7BD5B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B181-936A-4A51-BD5E-3453A65BAE7F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18E1-EF39-4CDA-A8C9-516A5920315F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5271-E057-4422-A185-38CA11E286F5}" type="slidenum">
              <a:rPr b="0" lang="en-N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kate.tekotago.ac.nz/~sequekm1/350/prototype%20game%20functions.html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26960" y="3949560"/>
            <a:ext cx="8064720" cy="1670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Image:Tui.jpg"/>
          <p:cNvPicPr/>
          <p:nvPr/>
        </p:nvPicPr>
        <p:blipFill>
          <a:blip r:embed="rId2"/>
          <a:stretch/>
        </p:blipFill>
        <p:spPr>
          <a:xfrm>
            <a:off x="1714680" y="1071720"/>
            <a:ext cx="581004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ound Diagonal Corner Rectangle 15"/>
          <p:cNvSpPr/>
          <p:nvPr/>
        </p:nvSpPr>
        <p:spPr>
          <a:xfrm>
            <a:off x="214200" y="1643040"/>
            <a:ext cx="8715600" cy="5214960"/>
          </a:xfrm>
          <a:prstGeom prst="pie">
            <a:avLst/>
          </a:prstGeom>
          <a:gradFill rotWithShape="0">
            <a:gsLst>
              <a:gs pos="0">
                <a:srgbClr val="ffd083"/>
              </a:gs>
              <a:gs pos="100000">
                <a:srgbClr val="ffefdb"/>
              </a:gs>
            </a:gsLst>
            <a:lin ang="0"/>
          </a:gradFill>
          <a:ln w="47880">
            <a:solidFill>
              <a:srgbClr val="b07e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http://i.treehugger.com/images/2007/10/24/smoke%20stack-jj-001.jpg"/>
          <p:cNvPicPr/>
          <p:nvPr/>
        </p:nvPicPr>
        <p:blipFill>
          <a:blip r:embed="rId2"/>
          <a:stretch/>
        </p:blipFill>
        <p:spPr>
          <a:xfrm>
            <a:off x="642960" y="1857240"/>
            <a:ext cx="3052800" cy="214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IMG_1555.JPG"/>
          <p:cNvPicPr/>
          <p:nvPr/>
        </p:nvPicPr>
        <p:blipFill>
          <a:blip r:embed="rId3"/>
          <a:stretch/>
        </p:blipFill>
        <p:spPr>
          <a:xfrm>
            <a:off x="4929120" y="164304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4"/>
          <p:cNvSpPr/>
          <p:nvPr/>
        </p:nvSpPr>
        <p:spPr>
          <a:xfrm>
            <a:off x="6072120" y="228600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http://www.apexcamps.com/images/apexpictures035.jpg"/>
          <p:cNvPicPr/>
          <p:nvPr/>
        </p:nvPicPr>
        <p:blipFill>
          <a:blip r:embed="rId4"/>
          <a:stretch/>
        </p:blipFill>
        <p:spPr>
          <a:xfrm>
            <a:off x="642960" y="407196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http://www.350.org.nz/picture13.jpg"/>
          <p:cNvPicPr/>
          <p:nvPr/>
        </p:nvPicPr>
        <p:blipFill>
          <a:blip r:embed="rId5"/>
          <a:stretch/>
        </p:blipFill>
        <p:spPr>
          <a:xfrm>
            <a:off x="6929280" y="4572000"/>
            <a:ext cx="1500480" cy="2122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6"/>
          <a:stretch/>
        </p:blipFill>
        <p:spPr>
          <a:xfrm>
            <a:off x="2357280" y="5643720"/>
            <a:ext cx="4413240" cy="853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volunteers_holding_hands_around_ear.gif together we are better lg image by khilliker"/>
          <p:cNvPicPr/>
          <p:nvPr/>
        </p:nvPicPr>
        <p:blipFill>
          <a:blip r:embed="rId7"/>
          <a:stretch/>
        </p:blipFill>
        <p:spPr>
          <a:xfrm>
            <a:off x="2643120" y="1785960"/>
            <a:ext cx="3786120" cy="3786120"/>
          </a:xfrm>
          <a:prstGeom prst="rect">
            <a:avLst/>
          </a:prstGeom>
          <a:ln w="0">
            <a:noFill/>
          </a:ln>
        </p:spPr>
      </p:pic>
      <p:pic>
        <p:nvPicPr>
          <p:cNvPr id="321" name="Title 1" descr=""/>
          <p:cNvPicPr/>
          <p:nvPr/>
        </p:nvPicPr>
        <p:blipFill>
          <a:blip r:embed="rId8"/>
          <a:stretch/>
        </p:blipFill>
        <p:spPr>
          <a:xfrm>
            <a:off x="4919760" y="1706400"/>
            <a:ext cx="3803400" cy="586080"/>
          </a:xfrm>
          <a:prstGeom prst="rect">
            <a:avLst/>
          </a:prstGeom>
          <a:ln w="0">
            <a:noFill/>
          </a:ln>
        </p:spPr>
      </p:pic>
      <p:pic>
        <p:nvPicPr>
          <p:cNvPr id="322" name="Title 1" descr=""/>
          <p:cNvPicPr/>
          <p:nvPr/>
        </p:nvPicPr>
        <p:blipFill>
          <a:blip r:embed="rId9"/>
          <a:stretch/>
        </p:blipFill>
        <p:spPr>
          <a:xfrm>
            <a:off x="360360" y="6278400"/>
            <a:ext cx="2004840" cy="586080"/>
          </a:xfrm>
          <a:prstGeom prst="rect">
            <a:avLst/>
          </a:prstGeom>
          <a:ln w="0">
            <a:noFill/>
          </a:ln>
        </p:spPr>
      </p:pic>
      <p:pic>
        <p:nvPicPr>
          <p:cNvPr id="323" name="Title 1" descr=""/>
          <p:cNvPicPr/>
          <p:nvPr/>
        </p:nvPicPr>
        <p:blipFill>
          <a:blip r:embed="rId10"/>
          <a:stretch/>
        </p:blipFill>
        <p:spPr>
          <a:xfrm>
            <a:off x="573120" y="1494000"/>
            <a:ext cx="2719440" cy="1298520"/>
          </a:xfrm>
          <a:prstGeom prst="rect">
            <a:avLst/>
          </a:prstGeom>
          <a:ln w="0">
            <a:noFill/>
          </a:ln>
        </p:spPr>
      </p:pic>
      <p:pic>
        <p:nvPicPr>
          <p:cNvPr id="324" name="Title 1" descr=""/>
          <p:cNvPicPr/>
          <p:nvPr/>
        </p:nvPicPr>
        <p:blipFill>
          <a:blip r:embed="rId11"/>
          <a:stretch/>
        </p:blipFill>
        <p:spPr>
          <a:xfrm>
            <a:off x="3144960" y="6138720"/>
            <a:ext cx="3431880" cy="993960"/>
          </a:xfrm>
          <a:prstGeom prst="rect">
            <a:avLst/>
          </a:prstGeom>
          <a:ln w="0">
            <a:noFill/>
          </a:ln>
        </p:spPr>
      </p:pic>
      <p:pic>
        <p:nvPicPr>
          <p:cNvPr id="325" name="Title 1" descr=""/>
          <p:cNvPicPr/>
          <p:nvPr/>
        </p:nvPicPr>
        <p:blipFill>
          <a:blip r:embed="rId12"/>
          <a:stretch/>
        </p:blipFill>
        <p:spPr>
          <a:xfrm>
            <a:off x="3505320" y="4925880"/>
            <a:ext cx="22190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ound Diagonal Corner Rectangle 9"/>
          <p:cNvSpPr/>
          <p:nvPr/>
        </p:nvSpPr>
        <p:spPr>
          <a:xfrm>
            <a:off x="214200" y="1643040"/>
            <a:ext cx="8715600" cy="5000760"/>
          </a:xfrm>
          <a:prstGeom prst="pie">
            <a:avLst/>
          </a:prstGeom>
          <a:gradFill rotWithShape="0">
            <a:gsLst>
              <a:gs pos="0">
                <a:srgbClr val="ffd083"/>
              </a:gs>
              <a:gs pos="100000">
                <a:srgbClr val="ffefdb"/>
              </a:gs>
            </a:gsLst>
            <a:lin ang="0"/>
          </a:gradFill>
          <a:ln w="47880">
            <a:solidFill>
              <a:srgbClr val="b07e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5072040" y="928800"/>
            <a:ext cx="3714840" cy="2786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29" name="Picture 3" descr=""/>
          <p:cNvPicPr/>
          <p:nvPr/>
        </p:nvPicPr>
        <p:blipFill>
          <a:blip r:embed="rId3"/>
          <a:srcRect l="0" t="13159" r="0" b="0"/>
          <a:stretch/>
        </p:blipFill>
        <p:spPr>
          <a:xfrm>
            <a:off x="5143680" y="4357800"/>
            <a:ext cx="3619440" cy="2357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30" name="Picture 2" descr=""/>
          <p:cNvPicPr/>
          <p:nvPr/>
        </p:nvPicPr>
        <p:blipFill>
          <a:blip r:embed="rId4"/>
          <a:stretch/>
        </p:blipFill>
        <p:spPr>
          <a:xfrm>
            <a:off x="-500040" y="2214720"/>
            <a:ext cx="4776840" cy="3582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31" name="Right Arrow 6"/>
          <p:cNvSpPr/>
          <p:nvPr/>
        </p:nvSpPr>
        <p:spPr>
          <a:xfrm>
            <a:off x="3571920" y="2357280"/>
            <a:ext cx="164304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ight Arrow 7"/>
          <p:cNvSpPr/>
          <p:nvPr/>
        </p:nvSpPr>
        <p:spPr>
          <a:xfrm>
            <a:off x="3929040" y="5214960"/>
            <a:ext cx="1643040" cy="5713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5072040" y="4000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rbel"/>
              </a:rPr>
              <a:t>Rank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ound Diagonal Corner Rectangle 13"/>
          <p:cNvSpPr/>
          <p:nvPr/>
        </p:nvSpPr>
        <p:spPr>
          <a:xfrm>
            <a:off x="214200" y="1500120"/>
            <a:ext cx="8715600" cy="2714760"/>
          </a:xfrm>
          <a:prstGeom prst="pie">
            <a:avLst/>
          </a:prstGeom>
          <a:gradFill rotWithShape="0">
            <a:gsLst>
              <a:gs pos="0">
                <a:srgbClr val="ffd083"/>
              </a:gs>
              <a:gs pos="100000">
                <a:srgbClr val="ffefdb"/>
              </a:gs>
            </a:gsLst>
            <a:lin ang="0"/>
          </a:gradFill>
          <a:ln w="47880">
            <a:solidFill>
              <a:srgbClr val="b07e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5462640" y="1962000"/>
            <a:ext cx="2554200" cy="1335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3"/>
          <a:stretch/>
        </p:blipFill>
        <p:spPr>
          <a:xfrm>
            <a:off x="549360" y="1566720"/>
            <a:ext cx="2900160" cy="4791240"/>
          </a:xfrm>
          <a:prstGeom prst="rect">
            <a:avLst/>
          </a:prstGeom>
          <a:ln w="0">
            <a:noFill/>
          </a:ln>
        </p:spPr>
      </p:pic>
      <p:sp>
        <p:nvSpPr>
          <p:cNvPr id="338" name="Right Arrow 5"/>
          <p:cNvSpPr/>
          <p:nvPr/>
        </p:nvSpPr>
        <p:spPr>
          <a:xfrm>
            <a:off x="3714840" y="2214720"/>
            <a:ext cx="1428840" cy="64296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4"/>
          <a:srcRect l="0" t="22628" r="42343" b="60015"/>
          <a:stretch/>
        </p:blipFill>
        <p:spPr>
          <a:xfrm>
            <a:off x="214200" y="4286160"/>
            <a:ext cx="5643720" cy="1274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5"/>
          <a:srcRect l="0" t="20704" r="63186" b="59769"/>
          <a:stretch/>
        </p:blipFill>
        <p:spPr>
          <a:xfrm>
            <a:off x="1714680" y="5500800"/>
            <a:ext cx="2376360" cy="946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6"/>
          <a:srcRect l="0" t="22657" r="64651" b="56841"/>
          <a:stretch/>
        </p:blipFill>
        <p:spPr>
          <a:xfrm>
            <a:off x="4929120" y="5513400"/>
            <a:ext cx="3090960" cy="1344600"/>
          </a:xfrm>
          <a:prstGeom prst="rect">
            <a:avLst/>
          </a:prstGeom>
          <a:ln w="0">
            <a:noFill/>
          </a:ln>
        </p:spPr>
      </p:pic>
      <p:sp>
        <p:nvSpPr>
          <p:cNvPr id="342" name="Right Arrow 9"/>
          <p:cNvSpPr/>
          <p:nvPr/>
        </p:nvSpPr>
        <p:spPr>
          <a:xfrm rot="7595400">
            <a:off x="4839120" y="3810240"/>
            <a:ext cx="652680" cy="4636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ight Arrow 10"/>
          <p:cNvSpPr/>
          <p:nvPr/>
        </p:nvSpPr>
        <p:spPr>
          <a:xfrm rot="7595400">
            <a:off x="5292360" y="4249800"/>
            <a:ext cx="1602000" cy="642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ight Arrow 11"/>
          <p:cNvSpPr/>
          <p:nvPr/>
        </p:nvSpPr>
        <p:spPr>
          <a:xfrm rot="7595400">
            <a:off x="6591600" y="4324680"/>
            <a:ext cx="1688760" cy="722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>
            <a:off x="1214280" y="6286680"/>
            <a:ext cx="3571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orbel"/>
              </a:rPr>
              <a:t>Note: Currently the colours are placeholders for images</a:t>
            </a:r>
            <a:r>
              <a:rPr b="0" lang="en-NZ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5"/>
          <p:cNvSpPr/>
          <p:nvPr/>
        </p:nvSpPr>
        <p:spPr>
          <a:xfrm>
            <a:off x="5143680" y="335772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orbel"/>
              </a:rPr>
              <a:t>Question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6"/>
          <p:cNvSpPr/>
          <p:nvPr/>
        </p:nvSpPr>
        <p:spPr>
          <a:xfrm>
            <a:off x="214200" y="1643040"/>
            <a:ext cx="8715600" cy="5000760"/>
          </a:xfrm>
          <a:prstGeom prst="pie">
            <a:avLst/>
          </a:prstGeom>
          <a:gradFill rotWithShape="0">
            <a:gsLst>
              <a:gs pos="0">
                <a:srgbClr val="ffd083"/>
              </a:gs>
              <a:gs pos="100000">
                <a:srgbClr val="ffefdb"/>
              </a:gs>
            </a:gsLst>
            <a:lin ang="0"/>
          </a:gradFill>
          <a:ln w="47880">
            <a:solidFill>
              <a:srgbClr val="b07e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3"/>
          <p:cNvSpPr/>
          <p:nvPr/>
        </p:nvSpPr>
        <p:spPr>
          <a:xfrm>
            <a:off x="428760" y="6000840"/>
            <a:ext cx="8358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kate.tekotago.ac.nz/~sequekm1/350/prototype%20game%20functi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500040" y="557208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rbel"/>
              </a:rPr>
              <a:t>Link to current G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woringOnPaperPrototype.jpg"/>
          <p:cNvPicPr/>
          <p:nvPr/>
        </p:nvPicPr>
        <p:blipFill>
          <a:blip r:embed="rId3"/>
          <a:stretch/>
        </p:blipFill>
        <p:spPr>
          <a:xfrm>
            <a:off x="1714680" y="1857240"/>
            <a:ext cx="5532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3:16:49Z</dcterms:created>
  <dc:creator>Lisa Taylor</dc:creator>
  <dc:description/>
  <dc:language>en-US</dc:language>
  <cp:lastModifiedBy>taylolk2</cp:lastModifiedBy>
  <dcterms:modified xsi:type="dcterms:W3CDTF">2009-09-24T21:00:28Z</dcterms:modified>
  <cp:revision>35</cp:revision>
  <dc:subject/>
  <dc:title>350 YeahRight!</dc:title>
</cp:coreProperties>
</file>